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BBE86-247D-43AD-900B-A3C312ABF9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2E0CE-9E83-42CE-BFB2-9F0C3F25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2336-EE0C-4512-A3E5-B893E504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C5EE-853A-483C-95F4-58C3C1E408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2E80-D72F-4641-ADCE-389D492B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2B8DE-8857-4045-98E6-4CD3C4B2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41881-2D63-4739-966A-13D7D591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3B37C-3F92-4342-A26C-84B3F251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7EF0A-A4E4-44B1-AE5C-AAD09416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C2A5E-7AEE-4BD3-A58C-3EAB7DCA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E943-ECEA-4840-BC8C-7F99039C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5E302-A9BC-4E4D-976C-FA022965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CE4DA-F257-47D3-8495-ED9B7A39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41595-3FC4-4D92-9585-99368092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3760E-E8E9-438E-8454-B84B54AF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4B6E4-F4D0-4D41-A9D1-516A3FF5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9EC83-1FB6-4D38-899D-223BFE8C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7D8D1-6C03-4ADE-9847-50435E27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BD8C8-363E-4F65-9870-3EA18B64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5EA3-A24E-4602-8CD6-4D7D8F83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1A396-65BD-43DB-82AC-36C9DFDA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523F-11A3-4F04-930C-145F7CC7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1890-A4FC-4A52-A82E-DE7916A3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8FD2-C2DC-42B7-9A20-679E511F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C05E-D409-485F-9DD0-7AAAFBC3CDE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EF9B-6A66-4E0D-A81C-605A644FE83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C61D-07B5-4540-8DD1-EACC1FB6F44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29CD-55EB-489E-9ABF-3052750AEC8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第七章  营养性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疾病患儿的护理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 杨园园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不增：最早出现的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顺序：腹部→躯干→臀部→四肢→面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身长不增，智力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脏器功能受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1256-5463-4F32-8A0D-B657801226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性贫血：最常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维生素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发性低血糖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E1F9-1ED2-41E3-A686-6403015D123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蛋白质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6311-9CF4-4401-9036-3B027293322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重低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86FE-EB6B-493E-BF16-813583A5BB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白蛋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样生长因子降低：敏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种血清酶活性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943A-7C65-4965-9CCB-8D709DE956D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祛除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调整饮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83DA-FD2F-45BD-B78D-05FBAC0444C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入院后完善相关检查，给予补液纠正低血糖、电解质紊乱，给予肠黏膜保护剂及肠道微生态制剂，同时进行饮食调整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患儿护理评估的内容包括哪些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何对该患儿进行饮食指导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日常生活护理应注意哪些方面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3564-8D4C-4164-A04F-E2F8B84CA05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E738-9F9C-4ABB-B7F7-DD6D2E82114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85C7-B6B0-475C-A8C8-1A6726DE81B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热量和（或）蛋白质摄入不足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机体免疫低下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不能满足小儿成长发展所需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营养性缺铁性贫血、低血糖、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营养知识及小儿喂养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6CDC-D478-46D2-9A79-E5972E3E6C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调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，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稠，循序渐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及微量元素的供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426C-0400-4D24-B96B-AA491ECEE4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5237280" y="2565360"/>
            <a:ext cx="649080" cy="0"/>
          </a:xfrm>
          <a:prstGeom prst="line">
            <a:avLst/>
          </a:prstGeom>
          <a:ln cap="sq"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6280"/>
            <a:ext cx="3960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能量营养不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单纯性肥胖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缺乏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锌缺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消化，改善食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582F-3AD9-4C2A-B95F-7D39C1B159D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4E34-0D78-4899-8CB7-F48CD61674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721C-C75C-409F-B79F-FC280F312DF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健康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喂养史、生长发育史，有无母乳不足、喂养不当或不良的饮食习惯，有无消化道畸形或其他消耗性疾病，是否早产或多胎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身体状况：身长、体重、皮下脂肪厚度、皮肤状况，有无精神改变、肌张力下降、体温下降以及心率心音等是否正常。检查血清白蛋白、胰岛素样生长因子Ⅰ、血清酶活性、血糖、胆固醇、各种电解质及微量元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社会状况 ：评估患儿和家长对疾病的认识程度、对治疗和护理的依从性，了解家庭亲子关系、经济状况以及患儿的个性特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29FB-3F9B-47CF-80D4-D4FE71CB5C5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74D8-2BD7-40E4-85B7-CA60972E9C9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5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的饮食指导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则：根据病情和对食物的耐受程度调整饮食，由少到多，由稀到稠，循序渐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该患儿属于中度营养不良，开始每日提供能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kcal/kg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逐渐增加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0kcal/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待体重接近正常后再恢复至正常生理需要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 增加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富含各类维生素和微量元素的新鲜食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：如果胃肠功能尚好，应尽量选择口服的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1BA1-6C7B-448C-9255-1AC281ECC9A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0FD1-7E0F-4E22-8C6C-0C313CF77D4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日常生活护理应注意的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防感染：保持皮肤、口腔清洁；注意室内空气清新，温度适宜；采用保护性隔离，预防呼吸系统感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注意观察病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行科学喂养，注意膳食合理搭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加强体格锻炼，增强体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F70A-901F-4A71-B0F0-D42C2F7E3EC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AF7D-AA04-4D8F-82C8-2E6F87EA118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小儿单纯性肥胖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肥胖症是由于能量的摄入长期超过人体的消耗，导致体内脂肪积蓄过多，体重超过一定范围的营养障碍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我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学龄儿童中，男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6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9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，女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 22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DEA5-1E8C-4A8D-975E-21E51F565D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能量摄入过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过少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疾病、精神创伤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16D3-B626-4D7C-B00A-8FE4AECDEEF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：好发于婴儿期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5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、青春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：旺盛、喜甜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肤：白色或紫色皮纹、皱褶处易糜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型：皮下脂肪丰满、分布均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障碍：自卑、胆怯、孤独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55B8-1D7F-485C-A29D-6541FE918E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D8DF-E53D-44C7-A532-8CD6C3EF7C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高于机体需要量  与摄入高能量食物过多和（或）运动过少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肥胖引起的心理障碍，不愿运动等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意象紊乱  与肥胖引起的自身形体改变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焦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控制饮食困难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BC3B-366A-46AA-88D0-CE161695CAC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Picture 4" descr="u=2792694762,1971384169&amp;gp=-42"/>
          <p:cNvPicPr/>
          <p:nvPr/>
        </p:nvPicPr>
        <p:blipFill>
          <a:blip r:embed="rId1"/>
          <a:stretch/>
        </p:blipFill>
        <p:spPr>
          <a:xfrm>
            <a:off x="5796000" y="4330800"/>
            <a:ext cx="23050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小儿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病因和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病因和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发病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锌缺乏症的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小儿做喂养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地为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患儿进行急救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评估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、单纯性肥胖症和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，并为其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8218-3DD7-4BFB-B037-0615378EE9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管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F8E7-8792-42A2-8B45-A98C0B9D834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755640" y="1989000"/>
            <a:ext cx="7993080" cy="36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热能＜消耗，但要满足小儿的基本营养及生长发育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饮食结构：低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、低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高蛋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体积大、低热能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良好饮食习惯：少食多餐、不吃零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运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BA9C-8278-4C5A-9C42-AAC7924FE8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611280" y="2276640"/>
            <a:ext cx="8208720" cy="4001760"/>
          </a:xfrm>
          <a:prstGeom prst="rect">
            <a:avLst/>
          </a:prstGeom>
          <a:solidFill>
            <a:srgbClr val="e8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形式：有氧运动，容易坚持，有体重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量：以患儿最大耐受力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家长参与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孕后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儿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前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4047-85D1-46F8-841B-A77D2992711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佝偻病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足，导致体内钙、磷代谢失常，造成以骨骼畸形为主要表现的全身性、慢性、营养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婴幼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A2BC-BBFE-485D-9364-C8A15070648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4560" y="137124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近两个月来夜间爱哭闹，不易安抚，多汗。母乳喂养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开始添加辅食，现每天添加菜泥、果泥及米粉。患儿生于北方，正值冬季，户外活动每日不足半小时且未规律服用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。母孕期无其他疾病。体检见：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方颅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cm×1.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尚未出牙，枕后头发脱落，未出牙。其余检查均正常。实验室检查结果：血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1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碱性磷酸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5IU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见尺桡骨远端干骺端临时钙化带模糊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临床诊断可能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治疗要点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243E-58FF-422F-A166-59FF40B7E04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A5BB-3AE7-4DB4-80CE-6CB0CC93C3B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来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69310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氢胆固醇   主要来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胆骨化醇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食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植物  麦角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麦角骨化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盘转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B30A-0228-453E-B8CD-4B8527CEFF1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755640" y="3068640"/>
            <a:ext cx="71280" cy="2664000"/>
          </a:xfrm>
          <a:custGeom>
            <a:avLst/>
            <a:gdLst>
              <a:gd name="textAreaLeft" fmla="*/ 20880 w 71280"/>
              <a:gd name="textAreaRight" fmla="*/ 71640 w 71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4"/>
                  <a:pt x="0" y="568"/>
                </a:cubicBezTo>
                <a:lnTo>
                  <a:pt x="0" y="21032"/>
                </a:lnTo>
                <a:cubicBezTo>
                  <a:pt x="0" y="2131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79280" y="3860640"/>
            <a:ext cx="50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外源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79280" y="1752480"/>
            <a:ext cx="45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3276720" y="198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826920" y="3500280"/>
            <a:ext cx="152640" cy="533520"/>
          </a:xfrm>
          <a:custGeom>
            <a:avLst/>
            <a:gdLst>
              <a:gd name="textAreaLeft" fmla="*/ 44640 w 152640"/>
              <a:gd name="textAreaRight" fmla="*/ 153000 w 15264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转化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CEB4-59AC-4B02-BDD8-ABB3898A21A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11480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419720" y="236232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429000" y="3505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-(OH)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4419720" y="426708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429000" y="5257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25(OH)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590920" y="2514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3" name="Picture 10" descr="图片1"/>
          <p:cNvPicPr/>
          <p:nvPr/>
        </p:nvPicPr>
        <p:blipFill>
          <a:blip r:embed="rId1"/>
          <a:srcRect l="7157" t="0" r="0" b="-5247"/>
          <a:stretch/>
        </p:blipFill>
        <p:spPr>
          <a:xfrm>
            <a:off x="4572000" y="4191120"/>
            <a:ext cx="660240" cy="990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1"/>
          <p:cNvSpPr/>
          <p:nvPr/>
        </p:nvSpPr>
        <p:spPr>
          <a:xfrm>
            <a:off x="2638080" y="441972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-</a:t>
            </a:r>
            <a:r>
              <a:rPr b="1" lang="el-GR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Picture 13" descr="图片2"/>
          <p:cNvPicPr/>
          <p:nvPr/>
        </p:nvPicPr>
        <p:blipFill>
          <a:blip r:embed="rId2"/>
          <a:srcRect l="1597" t="1606" r="816" b="2811"/>
          <a:stretch/>
        </p:blipFill>
        <p:spPr>
          <a:xfrm>
            <a:off x="4648320" y="2514600"/>
            <a:ext cx="990360" cy="6048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4"/>
          <p:cNvSpPr/>
          <p:nvPr/>
        </p:nvSpPr>
        <p:spPr>
          <a:xfrm>
            <a:off x="4724280" y="1752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＋ </a:t>
            </a:r>
            <a:r>
              <a:rPr b="1" lang="zh-CN" sz="2800" spc="-1" strike="noStrike">
                <a:solidFill>
                  <a:srgbClr val="046ca6"/>
                </a:solidFill>
                <a:latin typeface="华文仿宋"/>
                <a:ea typeface="华文仿宋"/>
              </a:rPr>
              <a:t>血浆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D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8CF2-E2CE-4E0A-B1EE-A0BA4B2E82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04920" y="3929040"/>
            <a:ext cx="2276280" cy="2571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3"/>
          <p:cNvSpPr/>
          <p:nvPr/>
        </p:nvSpPr>
        <p:spPr>
          <a:xfrm>
            <a:off x="2790720" y="1033560"/>
            <a:ext cx="356076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维生素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作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7162920" y="4614840"/>
            <a:ext cx="1109520" cy="1604880"/>
          </a:xfrm>
          <a:prstGeom prst="rect">
            <a:avLst/>
          </a:prstGeom>
          <a:ln w="0">
            <a:noFill/>
          </a:ln>
        </p:spPr>
      </p:pic>
      <p:sp>
        <p:nvSpPr>
          <p:cNvPr id="393" name="Line 6"/>
          <p:cNvSpPr/>
          <p:nvPr/>
        </p:nvSpPr>
        <p:spPr>
          <a:xfrm flipH="1">
            <a:off x="2195280" y="1841400"/>
            <a:ext cx="2971800" cy="3657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200400" y="3243240"/>
            <a:ext cx="2133720" cy="368280"/>
          </a:xfrm>
          <a:prstGeom prst="rect">
            <a:avLst/>
          </a:prstGeom>
          <a:solidFill>
            <a:srgbClr val="caeeca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仿宋"/>
              </a:rPr>
              <a:t>促进小肠黏膜对钙磷的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 flipH="1">
            <a:off x="2124000" y="1719360"/>
            <a:ext cx="1609920" cy="25765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752480" y="2023920"/>
            <a:ext cx="2133720" cy="368280"/>
          </a:xfrm>
          <a:prstGeom prst="rect">
            <a:avLst/>
          </a:prstGeom>
          <a:solidFill>
            <a:srgbClr val="ffffb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仿宋"/>
              </a:rPr>
              <a:t>促进肾小管对钙磷的重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5181480" y="1795320"/>
            <a:ext cx="2210040" cy="32004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638680" y="3624120"/>
            <a:ext cx="2819520" cy="368280"/>
          </a:xfrm>
          <a:prstGeom prst="rect">
            <a:avLst/>
          </a:prstGeom>
          <a:solidFill>
            <a:srgbClr val="bdde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仿宋"/>
              </a:rPr>
              <a:t>促进成骨细胞增殖破骨细胞分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  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光照射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摄入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过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疾病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7FEA-0B25-45FF-AEA9-080BE7EDF37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12C1-4707-49BD-9F44-650AA927C74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908000" y="1270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V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 flipH="1">
            <a:off x="5410080" y="2641680"/>
            <a:ext cx="457200" cy="3808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5562720" y="469908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2286000" y="34797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>
            <a:off x="2286000" y="4622760"/>
            <a:ext cx="0" cy="6811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2268360" y="5716440"/>
            <a:ext cx="0" cy="503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6095880" y="660240"/>
            <a:ext cx="0" cy="2286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6095880" y="126540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>
            <a:off x="6095880" y="180324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 flipH="1">
            <a:off x="3885840" y="3251160"/>
            <a:ext cx="6094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3200040" y="5460840"/>
            <a:ext cx="11430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5580000" y="3556080"/>
            <a:ext cx="0" cy="5763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7093080" y="324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486400" y="2184480"/>
          <a:ext cx="1523880" cy="4572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华文仿宋"/>
                        </a:rPr>
                        <a:t>甲状旁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Line 25"/>
          <p:cNvSpPr/>
          <p:nvPr/>
        </p:nvSpPr>
        <p:spPr>
          <a:xfrm>
            <a:off x="2658960" y="6453360"/>
            <a:ext cx="20574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Line 26"/>
          <p:cNvSpPr/>
          <p:nvPr/>
        </p:nvSpPr>
        <p:spPr>
          <a:xfrm flipH="1" flipV="1">
            <a:off x="1066680" y="1650600"/>
            <a:ext cx="4267440" cy="468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1066680" y="5460840"/>
            <a:ext cx="38124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>
            <a:off x="1066680" y="1655640"/>
            <a:ext cx="0" cy="381024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788000" y="6222960"/>
          <a:ext cx="1371600" cy="5176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佝偻病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422" name="Text Box 35"/>
          <p:cNvSpPr/>
          <p:nvPr/>
        </p:nvSpPr>
        <p:spPr>
          <a:xfrm>
            <a:off x="5105520" y="941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肠道吸收钙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5715000" y="1444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 Box 37"/>
          <p:cNvSpPr/>
          <p:nvPr/>
        </p:nvSpPr>
        <p:spPr>
          <a:xfrm>
            <a:off x="1219320" y="30225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肾小管重吸收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 Box 38"/>
          <p:cNvSpPr/>
          <p:nvPr/>
        </p:nvSpPr>
        <p:spPr>
          <a:xfrm>
            <a:off x="4648320" y="3027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 Box 40"/>
          <p:cNvSpPr/>
          <p:nvPr/>
        </p:nvSpPr>
        <p:spPr>
          <a:xfrm>
            <a:off x="4572000" y="4106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破骨作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Text Box 42"/>
          <p:cNvSpPr/>
          <p:nvPr/>
        </p:nvSpPr>
        <p:spPr>
          <a:xfrm>
            <a:off x="1905120" y="40892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1523880" y="52322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钙磷乘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4343400" y="52322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正常或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295280" y="62229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骨钙化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1" name="Group 48"/>
          <p:cNvGrpSpPr/>
          <p:nvPr/>
        </p:nvGrpSpPr>
        <p:grpSpPr>
          <a:xfrm>
            <a:off x="6948360" y="3000240"/>
            <a:ext cx="2076480" cy="3033360"/>
            <a:chOff x="6948360" y="3000240"/>
            <a:chExt cx="2076480" cy="3033360"/>
          </a:xfrm>
        </p:grpSpPr>
        <p:sp>
          <p:nvSpPr>
            <p:cNvPr id="432" name="AutoShape 46"/>
            <p:cNvSpPr/>
            <p:nvPr/>
          </p:nvSpPr>
          <p:spPr>
            <a:xfrm>
              <a:off x="6948360" y="3000240"/>
              <a:ext cx="2076480" cy="303336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46ca6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6976800" y="3170520"/>
              <a:ext cx="1913040" cy="1595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骨质疏松、软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未钙化的骨样组织增生堆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蛋白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能量营养不良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能量和（或）蛋白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下的婴幼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，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儿童中重度营养不良发生率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217A-7E63-4EF0-B156-62D5C1EC56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期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863960" y="2214360"/>
            <a:ext cx="3903840" cy="38811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A243-A2CF-4823-8EEB-4C3023D53E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初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09640" y="1197000"/>
            <a:ext cx="736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精神症状：易激惹、睡眠不安、夜间啼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汗、枕秃，骨骼改变不明显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 正常或钙化带稍模糊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-(OH)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正常或稍低、血磷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或稍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CD30-DC85-41AB-ACC7-3BA9FAB0DA5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3429000" y="4876920"/>
            <a:ext cx="3068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743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部：颅骨软化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颅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增大 闭合延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牙延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左右出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肋骨串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郝氏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鸡胸、漏斗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CA0D-14B2-4326-BEAE-B26AAD34D3D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肢：手镯、脚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脊柱：后突或侧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骨盆：扁平骨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D94C-6967-4D2F-BE65-55E5F22B6C0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松弛、肌张力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和动作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免疫功能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AC0F-23E6-426B-ACE9-647D6CAB10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280" y="1844640"/>
            <a:ext cx="455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线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钙化带消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呈杯口、毛刷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软骨带增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质稀疏、皮质变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D3FC-D31E-484A-B4E8-5831DE11695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A91C-B736-4687-8BC5-D16604608C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>
            <a:lum bright="24000"/>
          </a:blip>
          <a:srcRect l="0" t="5580" r="0" b="26342"/>
          <a:stretch/>
        </p:blipFill>
        <p:spPr>
          <a:xfrm>
            <a:off x="2571840" y="1143000"/>
            <a:ext cx="43480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34A7-DB50-4A9C-AA48-4D6BADED7E0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9" name="Picture 5" descr="Dsc00064"/>
          <p:cNvPicPr/>
          <p:nvPr/>
        </p:nvPicPr>
        <p:blipFill>
          <a:blip r:embed="rId1"/>
          <a:stretch/>
        </p:blipFill>
        <p:spPr>
          <a:xfrm>
            <a:off x="2022480" y="1413000"/>
            <a:ext cx="5099040" cy="4471920"/>
          </a:xfrm>
          <a:prstGeom prst="rect">
            <a:avLst/>
          </a:prstGeom>
          <a:ln w="0">
            <a:noFill/>
          </a:ln>
        </p:spPr>
      </p:pic>
      <p:sp>
        <p:nvSpPr>
          <p:cNvPr id="460" name="Line 7"/>
          <p:cNvSpPr/>
          <p:nvPr/>
        </p:nvSpPr>
        <p:spPr>
          <a:xfrm flipV="1">
            <a:off x="1673280" y="397800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 flipV="1">
            <a:off x="1165320" y="281736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280" y="177300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化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钙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磷明显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明显增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E296-6852-4296-85D2-30F864778A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恢复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症状明显减轻或消失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、磷浓度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改善，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E382-E853-429F-93BF-6D0EF9E7C2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体重不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就诊。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主要以米粉喂养，食欲欠佳，间断性腹泻，大便稀水样，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。患儿系第一胎，第一产，足月顺产，出生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纯母乳喂养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母乳量不足，开始添加米粉，并以米粉为主。目前还添加少量菜泥和果泥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F22D-F671-4BC6-9CFA-BE6ED33C9F6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838D-6962-4314-8665-34ED20F2050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02920" y="43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后遗症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后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程度的骨骼畸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临床症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B731-FE4C-4A0E-91D2-5B711599EE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之后预防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补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营养，及时添加辅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户外活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42ED-36BC-496B-8A21-DDECAC0C66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800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日光照射不足，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摄入不足等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迟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乏导致骨骼畸形， 运动、精神发育迟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、肺部感染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佝偻病的预防和护理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8DA0-FCFB-41E3-86BD-0686E1C207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日光照射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防止中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骨骼畸形和骨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03E9-D41A-49D0-BF65-C2D07DBA652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母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饮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FA6E-0904-4697-9764-FA75B7A0D7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尽早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F783-E34A-4E14-9C72-0186BB76352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月，之后预防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钙：若乳类摄入充足（每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则不需要补充钙剂。在有低血钙、严重佝偻病或乳类摄入不足时需补充钙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及时添加富含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辅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，多晒太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1842-93D3-4B95-86D2-2DF647CCB1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93DE-7BC4-42C6-8AEC-A0E55D170BC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手足搐搦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，血钙降低导致神经肌肉兴奋性增高，出现惊厥、喉痉挛或手足抽搐等症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70CE-73C8-47C1-8CFC-0A5D4545A33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ED19-BFC1-40D8-9EC7-205CDB4323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1285920" y="944640"/>
            <a:ext cx="7924680" cy="51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肠道吸收钙磷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降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甲状旁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减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分泌增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b05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b050"/>
                </a:solidFill>
                <a:latin typeface="黑体"/>
                <a:ea typeface="黑体"/>
              </a:rPr>
              <a:t>分泌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低血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盐溶解        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血钙下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钙磷乘积下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正常或偏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手足搐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钙化受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佝偻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Line 3"/>
          <p:cNvSpPr/>
          <p:nvPr/>
        </p:nvSpPr>
        <p:spPr>
          <a:xfrm flipH="1">
            <a:off x="4757400" y="2671920"/>
            <a:ext cx="685800" cy="4572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5672160" y="2671920"/>
            <a:ext cx="685800" cy="53316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4857840" y="435780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6643800" y="3500280"/>
            <a:ext cx="0" cy="50508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2286000" y="33861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Line 11"/>
          <p:cNvSpPr/>
          <p:nvPr/>
        </p:nvSpPr>
        <p:spPr>
          <a:xfrm>
            <a:off x="5357880" y="220032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357880" y="120024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5357880" y="161136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928800" y="2500200"/>
            <a:ext cx="3962160" cy="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1000080" y="5929200"/>
            <a:ext cx="3808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 flipH="1">
            <a:off x="3643200" y="3357720"/>
            <a:ext cx="4572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4857840" y="3500280"/>
            <a:ext cx="0" cy="665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5357880" y="35712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Line 28"/>
          <p:cNvSpPr/>
          <p:nvPr/>
        </p:nvSpPr>
        <p:spPr>
          <a:xfrm>
            <a:off x="928800" y="2476440"/>
            <a:ext cx="46080" cy="345276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45"/>
          <p:cNvSpPr/>
          <p:nvPr/>
        </p:nvSpPr>
        <p:spPr>
          <a:xfrm>
            <a:off x="6643800" y="4429080"/>
            <a:ext cx="0" cy="50472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10" name="直接箭头连接符 25"/>
          <p:cNvCxnSpPr/>
          <p:nvPr/>
        </p:nvCxnSpPr>
        <p:spPr>
          <a:xfrm>
            <a:off x="2857680" y="5928840"/>
            <a:ext cx="1429200" cy="252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sp>
        <p:nvSpPr>
          <p:cNvPr id="511" name="Line 8"/>
          <p:cNvSpPr/>
          <p:nvPr/>
        </p:nvSpPr>
        <p:spPr>
          <a:xfrm>
            <a:off x="2286000" y="43149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2286000" y="517212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典型发作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惊厥：最常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手足抽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喉痉挛：严重者导致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B4A3-2B2C-41F3-AB44-21FFAD7853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6" name="Picture 6" descr="shouzhu "/>
          <p:cNvPicPr/>
          <p:nvPr/>
        </p:nvPicPr>
        <p:blipFill>
          <a:blip r:embed="rId1"/>
          <a:srcRect l="55672" t="26165" r="20935" b="37346"/>
          <a:stretch/>
        </p:blipFill>
        <p:spPr>
          <a:xfrm>
            <a:off x="6215040" y="2428920"/>
            <a:ext cx="2158920" cy="30211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shouzhu "/>
          <p:cNvPicPr/>
          <p:nvPr/>
        </p:nvPicPr>
        <p:blipFill>
          <a:blip r:embed="rId2"/>
          <a:srcRect l="14321" t="38630" r="50576" b="37346"/>
          <a:stretch/>
        </p:blipFill>
        <p:spPr>
          <a:xfrm>
            <a:off x="2214720" y="4143240"/>
            <a:ext cx="3240000" cy="1989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8"/>
          <p:cNvSpPr/>
          <p:nvPr/>
        </p:nvSpPr>
        <p:spPr>
          <a:xfrm>
            <a:off x="2857680" y="62150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助产士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50088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芭蕾舞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检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3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0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精神欠佳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2cm×1.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凹陷，头发较少无光泽。皮肤干燥，弹性较差，无水肿。双肺呼吸音清，心音有力，未闻及杂音，腹部皮下脂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3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腹软，肝肋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质软。实验室检查结果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b86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P48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LB29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6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空腹血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大便常规（—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儿的临床诊断是什么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2621-614D-453F-8308-DFA7255E374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F0EF-CA2A-449F-BC3B-076E12DDB77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隐匿型体征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神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腓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陶瑟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7050-D16E-4AA7-8E71-5AE1DD83F3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救处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氧，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控制惊厥、喉痉挛：首选安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葡萄糖酸钙，静脉点滴或缓慢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&gt;10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9675-83B8-426C-8C6E-88EEC53F513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窒息（喉痉挛）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惊厥发作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缺乏预防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的知识以及护理惊厥和喉痉挛的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DB02-678C-4556-9B9C-D1FEEBCD9B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，做好急救准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医嘱使用镇静剂、钙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户外活动，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1975-388F-4400-AFE1-4921A820283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锌缺乏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摄入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收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量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丢失过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5684-511C-48D2-8A92-30453706A96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减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落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脱发、皮肤粗糙、皮炎、地图舌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A4DD-B907-4037-BCE2-C54DF26D241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腹血清锌浓度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47μmol/l(75μg/dl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餐后血清锌浓度反应试验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C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07EC-36D9-49AF-9312-62CCFE273AE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针对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原发疾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当增加富含锌的食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锌制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3B37-74DD-4F30-B31F-E5D86D6FD6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 低于机体需要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9C95-3DEB-4372-97E8-347FD1FBE9D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喂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FB3B-284F-4506-8458-F7BAD49BC06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不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增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1FBA-E3C0-44D8-917F-EC0D7DBBA19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CE5C-564E-4C6F-8EB5-0789CEFA642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理生理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1794-24E8-44E2-AEDF-61C7F66D929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2763720" y="1413000"/>
            <a:ext cx="2113200" cy="5205240"/>
            <a:chOff x="2763720" y="1413000"/>
            <a:chExt cx="2113200" cy="5205240"/>
          </a:xfrm>
        </p:grpSpPr>
        <p:sp>
          <p:nvSpPr>
            <p:cNvPr id="195" name="Text Box 7"/>
            <p:cNvSpPr/>
            <p:nvPr/>
          </p:nvSpPr>
          <p:spPr>
            <a:xfrm>
              <a:off x="2803680" y="2411280"/>
              <a:ext cx="1828800" cy="48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肪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8"/>
            <p:cNvSpPr/>
            <p:nvPr/>
          </p:nvSpPr>
          <p:spPr>
            <a:xfrm>
              <a:off x="3657600" y="3075120"/>
              <a:ext cx="200160" cy="707760"/>
            </a:xfrm>
            <a:prstGeom prst="downArrow">
              <a:avLst>
                <a:gd name="adj1" fmla="val 50000"/>
                <a:gd name="adj2" fmla="val 484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2925720" y="3865680"/>
              <a:ext cx="1625760" cy="92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胆固醇和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皮下脂肪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2763720" y="5516640"/>
              <a:ext cx="2113200" cy="110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体重不增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脂肪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性及浸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3714840" y="4903920"/>
              <a:ext cx="214200" cy="541080"/>
            </a:xfrm>
            <a:prstGeom prst="downArrow">
              <a:avLst>
                <a:gd name="adj1" fmla="val 50000"/>
                <a:gd name="adj2" fmla="val 3330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20"/>
            <p:cNvSpPr/>
            <p:nvPr/>
          </p:nvSpPr>
          <p:spPr>
            <a:xfrm>
              <a:off x="3657600" y="1413000"/>
              <a:ext cx="200160" cy="873000"/>
            </a:xfrm>
            <a:prstGeom prst="downArrow">
              <a:avLst>
                <a:gd name="adj1" fmla="val 50000"/>
                <a:gd name="adj2" fmla="val 670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1" name="Group 34"/>
          <p:cNvGrpSpPr/>
          <p:nvPr/>
        </p:nvGrpSpPr>
        <p:grpSpPr>
          <a:xfrm>
            <a:off x="4788000" y="1413000"/>
            <a:ext cx="1260360" cy="3144240"/>
            <a:chOff x="4788000" y="1413000"/>
            <a:chExt cx="1260360" cy="3144240"/>
          </a:xfrm>
        </p:grpSpPr>
        <p:sp>
          <p:nvSpPr>
            <p:cNvPr id="202" name="Text Box 12"/>
            <p:cNvSpPr/>
            <p:nvPr/>
          </p:nvSpPr>
          <p:spPr>
            <a:xfrm>
              <a:off x="4788000" y="2421000"/>
              <a:ext cx="1260360" cy="719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糖原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4790880" y="4005360"/>
              <a:ext cx="1220400" cy="551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糖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5219640" y="3286080"/>
              <a:ext cx="205920" cy="684360"/>
            </a:xfrm>
            <a:prstGeom prst="downArrow">
              <a:avLst>
                <a:gd name="adj1" fmla="val 50000"/>
                <a:gd name="adj2" fmla="val 333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21"/>
            <p:cNvSpPr/>
            <p:nvPr/>
          </p:nvSpPr>
          <p:spPr>
            <a:xfrm>
              <a:off x="5278320" y="1413000"/>
              <a:ext cx="218520" cy="831600"/>
            </a:xfrm>
            <a:prstGeom prst="downArrow">
              <a:avLst>
                <a:gd name="adj1" fmla="val 50000"/>
                <a:gd name="adj2" fmla="val 6404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32"/>
          <p:cNvGrpSpPr/>
          <p:nvPr/>
        </p:nvGrpSpPr>
        <p:grpSpPr>
          <a:xfrm>
            <a:off x="411120" y="1005480"/>
            <a:ext cx="2870640" cy="5158080"/>
            <a:chOff x="411120" y="1005480"/>
            <a:chExt cx="2870640" cy="5158080"/>
          </a:xfrm>
        </p:grpSpPr>
        <p:sp>
          <p:nvSpPr>
            <p:cNvPr id="207" name="Text Box 2"/>
            <p:cNvSpPr/>
            <p:nvPr/>
          </p:nvSpPr>
          <p:spPr>
            <a:xfrm>
              <a:off x="411120" y="2411280"/>
              <a:ext cx="2127240" cy="484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蛋白质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3"/>
            <p:cNvSpPr/>
            <p:nvPr/>
          </p:nvSpPr>
          <p:spPr>
            <a:xfrm>
              <a:off x="1270080" y="2951280"/>
              <a:ext cx="214200" cy="747720"/>
            </a:xfrm>
            <a:prstGeom prst="downArrow">
              <a:avLst>
                <a:gd name="adj1" fmla="val 50000"/>
                <a:gd name="adj2" fmla="val 4602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452520" y="3824280"/>
              <a:ext cx="2031840" cy="961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总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白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1270080" y="4946760"/>
              <a:ext cx="214200" cy="539640"/>
            </a:xfrm>
            <a:prstGeom prst="downArrow">
              <a:avLst>
                <a:gd name="adj1" fmla="val 50000"/>
                <a:gd name="adj2" fmla="val 332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11120" y="5611680"/>
              <a:ext cx="2200320" cy="551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蛋白水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3"/>
            <p:cNvSpPr/>
            <p:nvPr/>
          </p:nvSpPr>
          <p:spPr>
            <a:xfrm rot="3175200">
              <a:off x="2339280" y="695880"/>
              <a:ext cx="199800" cy="1960560"/>
            </a:xfrm>
            <a:prstGeom prst="downArrow">
              <a:avLst>
                <a:gd name="adj1" fmla="val 50000"/>
                <a:gd name="adj2" fmla="val 128791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3" name="Oval 24"/>
          <p:cNvSpPr/>
          <p:nvPr/>
        </p:nvSpPr>
        <p:spPr>
          <a:xfrm>
            <a:off x="3203640" y="506520"/>
            <a:ext cx="3097080" cy="112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组合 36"/>
          <p:cNvGrpSpPr/>
          <p:nvPr/>
        </p:nvGrpSpPr>
        <p:grpSpPr>
          <a:xfrm>
            <a:off x="5982840" y="1234440"/>
            <a:ext cx="2543760" cy="5222520"/>
            <a:chOff x="5982840" y="1234440"/>
            <a:chExt cx="2543760" cy="5222520"/>
          </a:xfrm>
        </p:grpSpPr>
        <p:sp>
          <p:nvSpPr>
            <p:cNvPr id="215" name="Text Box 15"/>
            <p:cNvSpPr/>
            <p:nvPr/>
          </p:nvSpPr>
          <p:spPr>
            <a:xfrm>
              <a:off x="6401880" y="2421360"/>
              <a:ext cx="1584720" cy="826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6114600" y="3934080"/>
              <a:ext cx="2235600" cy="585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6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钠在细胞内潴留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6186240" y="5402520"/>
              <a:ext cx="2340360" cy="1054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渗性脱水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血钾、酸中毒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AutoShape 18"/>
            <p:cNvSpPr/>
            <p:nvPr/>
          </p:nvSpPr>
          <p:spPr>
            <a:xfrm>
              <a:off x="7097760" y="3283200"/>
              <a:ext cx="250560" cy="541080"/>
            </a:xfrm>
            <a:prstGeom prst="downArrow">
              <a:avLst>
                <a:gd name="adj1" fmla="val 50000"/>
                <a:gd name="adj2" fmla="val 3332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AutoShape 19"/>
            <p:cNvSpPr/>
            <p:nvPr/>
          </p:nvSpPr>
          <p:spPr>
            <a:xfrm>
              <a:off x="7097760" y="4780440"/>
              <a:ext cx="250560" cy="539640"/>
            </a:xfrm>
            <a:prstGeom prst="downArrow">
              <a:avLst>
                <a:gd name="adj1" fmla="val 50000"/>
                <a:gd name="adj2" fmla="val 332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AutoShape 22"/>
            <p:cNvSpPr/>
            <p:nvPr/>
          </p:nvSpPr>
          <p:spPr>
            <a:xfrm rot="18895200">
              <a:off x="6441480" y="1117800"/>
              <a:ext cx="251640" cy="1400040"/>
            </a:xfrm>
            <a:prstGeom prst="downArrow">
              <a:avLst>
                <a:gd name="adj1" fmla="val 50000"/>
                <a:gd name="adj2" fmla="val 14560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9"/>
            <p:cNvSpPr/>
            <p:nvPr/>
          </p:nvSpPr>
          <p:spPr>
            <a:xfrm>
              <a:off x="6474960" y="2349720"/>
              <a:ext cx="158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电解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代谢异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2" name="Text Box 30"/>
          <p:cNvSpPr/>
          <p:nvPr/>
        </p:nvSpPr>
        <p:spPr>
          <a:xfrm>
            <a:off x="3564000" y="822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陈代谢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3" name="Group 36"/>
          <p:cNvGrpSpPr/>
          <p:nvPr/>
        </p:nvGrpSpPr>
        <p:grpSpPr>
          <a:xfrm>
            <a:off x="6372360" y="907920"/>
            <a:ext cx="2158920" cy="720720"/>
            <a:chOff x="6372360" y="907920"/>
            <a:chExt cx="2158920" cy="720720"/>
          </a:xfrm>
        </p:grpSpPr>
        <p:sp>
          <p:nvSpPr>
            <p:cNvPr id="224" name="AutoShape 27"/>
            <p:cNvSpPr/>
            <p:nvPr/>
          </p:nvSpPr>
          <p:spPr>
            <a:xfrm>
              <a:off x="6372360" y="1052280"/>
              <a:ext cx="690480" cy="235080"/>
            </a:xfrm>
            <a:prstGeom prst="rightArrow">
              <a:avLst>
                <a:gd name="adj1" fmla="val 50000"/>
                <a:gd name="adj2" fmla="val 5938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28"/>
            <p:cNvSpPr/>
            <p:nvPr/>
          </p:nvSpPr>
          <p:spPr>
            <a:xfrm>
              <a:off x="7307280" y="907920"/>
              <a:ext cx="122400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Text Box 31"/>
            <p:cNvSpPr/>
            <p:nvPr/>
          </p:nvSpPr>
          <p:spPr>
            <a:xfrm>
              <a:off x="7380360" y="10522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体温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47280" y="1341360"/>
            <a:ext cx="4597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各系统功能低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E5CC-BD65-47DB-BE3E-664535C81E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0" name="Group 39"/>
          <p:cNvGrpSpPr/>
          <p:nvPr/>
        </p:nvGrpSpPr>
        <p:grpSpPr>
          <a:xfrm>
            <a:off x="2340000" y="2077920"/>
            <a:ext cx="2376360" cy="4182120"/>
            <a:chOff x="2340000" y="2077920"/>
            <a:chExt cx="2376360" cy="4182120"/>
          </a:xfrm>
        </p:grpSpPr>
        <p:sp>
          <p:nvSpPr>
            <p:cNvPr id="231" name="AutoShape 3"/>
            <p:cNvSpPr/>
            <p:nvPr/>
          </p:nvSpPr>
          <p:spPr>
            <a:xfrm>
              <a:off x="3373560" y="2077920"/>
              <a:ext cx="198360" cy="547920"/>
            </a:xfrm>
            <a:prstGeom prst="downArrow">
              <a:avLst>
                <a:gd name="adj1" fmla="val 50000"/>
                <a:gd name="adj2" fmla="val 4211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2641680" y="2625840"/>
              <a:ext cx="1828800" cy="40572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循环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3332160" y="3220920"/>
              <a:ext cx="168120" cy="478080"/>
            </a:xfrm>
            <a:prstGeom prst="downArrow">
              <a:avLst>
                <a:gd name="adj1" fmla="val 50000"/>
                <a:gd name="adj2" fmla="val 2943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2519280" y="3699000"/>
              <a:ext cx="1951200" cy="37836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肌收缩力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2847960" y="4654440"/>
              <a:ext cx="1422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博量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5"/>
            <p:cNvSpPr/>
            <p:nvPr/>
          </p:nvSpPr>
          <p:spPr>
            <a:xfrm>
              <a:off x="3332160" y="4195800"/>
              <a:ext cx="168120" cy="458640"/>
            </a:xfrm>
            <a:prstGeom prst="downArrow">
              <a:avLst>
                <a:gd name="adj1" fmla="val 50000"/>
                <a:gd name="adj2" fmla="val 28240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20"/>
            <p:cNvSpPr/>
            <p:nvPr/>
          </p:nvSpPr>
          <p:spPr>
            <a:xfrm>
              <a:off x="3292560" y="5259240"/>
              <a:ext cx="207720" cy="540000"/>
            </a:xfrm>
            <a:prstGeom prst="downArrow">
              <a:avLst>
                <a:gd name="adj1" fmla="val 50000"/>
                <a:gd name="adj2" fmla="val 3325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2340000" y="5799240"/>
              <a:ext cx="2376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脉细弱、 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BP 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9" name="Group 40"/>
          <p:cNvGrpSpPr/>
          <p:nvPr/>
        </p:nvGrpSpPr>
        <p:grpSpPr>
          <a:xfrm>
            <a:off x="4449600" y="1989000"/>
            <a:ext cx="2560680" cy="3372480"/>
            <a:chOff x="4449600" y="1989000"/>
            <a:chExt cx="2560680" cy="3372480"/>
          </a:xfrm>
        </p:grpSpPr>
        <p:sp>
          <p:nvSpPr>
            <p:cNvPr id="240" name="AutoShape 4"/>
            <p:cNvSpPr/>
            <p:nvPr/>
          </p:nvSpPr>
          <p:spPr>
            <a:xfrm>
              <a:off x="5405400" y="1989000"/>
              <a:ext cx="238320" cy="831960"/>
            </a:xfrm>
            <a:prstGeom prst="downArrow">
              <a:avLst>
                <a:gd name="adj1" fmla="val 50000"/>
                <a:gd name="adj2" fmla="val 63855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4788000" y="2852640"/>
              <a:ext cx="1503360" cy="32364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泌尿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17"/>
            <p:cNvSpPr/>
            <p:nvPr/>
          </p:nvSpPr>
          <p:spPr>
            <a:xfrm>
              <a:off x="4551480" y="3870360"/>
              <a:ext cx="2252520" cy="46080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小管重吸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5405400" y="3330720"/>
              <a:ext cx="238320" cy="539640"/>
            </a:xfrm>
            <a:prstGeom prst="downArrow">
              <a:avLst>
                <a:gd name="adj1" fmla="val 50000"/>
                <a:gd name="adj2" fmla="val 3316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AutoShape 22"/>
            <p:cNvSpPr/>
            <p:nvPr/>
          </p:nvSpPr>
          <p:spPr>
            <a:xfrm>
              <a:off x="5405400" y="4473720"/>
              <a:ext cx="238320" cy="541080"/>
            </a:xfrm>
            <a:prstGeom prst="downArrow">
              <a:avLst>
                <a:gd name="adj1" fmla="val 50000"/>
                <a:gd name="adj2" fmla="val 3325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23"/>
            <p:cNvSpPr/>
            <p:nvPr/>
          </p:nvSpPr>
          <p:spPr>
            <a:xfrm>
              <a:off x="4449600" y="5065560"/>
              <a:ext cx="2560680" cy="295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尿多、 尿比重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34920" y="1681560"/>
            <a:ext cx="2641680" cy="4954320"/>
            <a:chOff x="34920" y="1681560"/>
            <a:chExt cx="2641680" cy="4954320"/>
          </a:xfrm>
        </p:grpSpPr>
        <p:sp>
          <p:nvSpPr>
            <p:cNvPr id="247" name="AutoShape 6"/>
            <p:cNvSpPr/>
            <p:nvPr/>
          </p:nvSpPr>
          <p:spPr>
            <a:xfrm rot="3175200">
              <a:off x="1699200" y="1360800"/>
              <a:ext cx="189000" cy="1993680"/>
            </a:xfrm>
            <a:prstGeom prst="downArrow">
              <a:avLst>
                <a:gd name="adj1" fmla="val 50000"/>
                <a:gd name="adj2" fmla="val 1309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244440" y="3159000"/>
              <a:ext cx="1787400" cy="405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974880" y="3740040"/>
              <a:ext cx="239400" cy="541440"/>
            </a:xfrm>
            <a:prstGeom prst="downArrow">
              <a:avLst>
                <a:gd name="adj1" fmla="val 50000"/>
                <a:gd name="adj2" fmla="val 3334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34920" y="4357800"/>
              <a:ext cx="2641680" cy="3510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液和消化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AutoShape 10"/>
            <p:cNvSpPr/>
            <p:nvPr/>
          </p:nvSpPr>
          <p:spPr>
            <a:xfrm>
              <a:off x="974880" y="4903920"/>
              <a:ext cx="239400" cy="541080"/>
            </a:xfrm>
            <a:prstGeom prst="downArrow">
              <a:avLst>
                <a:gd name="adj1" fmla="val 50000"/>
                <a:gd name="adj2" fmla="val 3332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AutoShape 26"/>
            <p:cNvSpPr/>
            <p:nvPr/>
          </p:nvSpPr>
          <p:spPr>
            <a:xfrm>
              <a:off x="179280" y="5472000"/>
              <a:ext cx="1656000" cy="1163880"/>
            </a:xfrm>
            <a:prstGeom prst="octagon">
              <a:avLst>
                <a:gd name="adj" fmla="val 29287"/>
              </a:avLst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菌群失调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腹泻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6421320" y="1413000"/>
            <a:ext cx="2543400" cy="720720"/>
            <a:chOff x="6421320" y="1413000"/>
            <a:chExt cx="2543400" cy="720720"/>
          </a:xfrm>
        </p:grpSpPr>
        <p:sp>
          <p:nvSpPr>
            <p:cNvPr id="254" name="AutoShape 27"/>
            <p:cNvSpPr/>
            <p:nvPr/>
          </p:nvSpPr>
          <p:spPr>
            <a:xfrm>
              <a:off x="7236000" y="1413000"/>
              <a:ext cx="165708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28"/>
            <p:cNvSpPr/>
            <p:nvPr/>
          </p:nvSpPr>
          <p:spPr>
            <a:xfrm>
              <a:off x="6421320" y="1557720"/>
              <a:ext cx="690840" cy="230040"/>
            </a:xfrm>
            <a:prstGeom prst="rightArrow">
              <a:avLst>
                <a:gd name="adj1" fmla="val 50000"/>
                <a:gd name="adj2" fmla="val 594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35"/>
            <p:cNvSpPr/>
            <p:nvPr/>
          </p:nvSpPr>
          <p:spPr>
            <a:xfrm>
              <a:off x="7236000" y="1557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免疫功能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7" name="Group 41"/>
          <p:cNvGrpSpPr/>
          <p:nvPr/>
        </p:nvGrpSpPr>
        <p:grpSpPr>
          <a:xfrm>
            <a:off x="6184080" y="1755360"/>
            <a:ext cx="2851920" cy="4698000"/>
            <a:chOff x="6184080" y="1755360"/>
            <a:chExt cx="2851920" cy="4698000"/>
          </a:xfrm>
        </p:grpSpPr>
        <p:sp>
          <p:nvSpPr>
            <p:cNvPr id="258" name="AutoShape 5"/>
            <p:cNvSpPr/>
            <p:nvPr/>
          </p:nvSpPr>
          <p:spPr>
            <a:xfrm rot="18895200">
              <a:off x="6790680" y="1562760"/>
              <a:ext cx="201600" cy="1797120"/>
            </a:xfrm>
            <a:prstGeom prst="downArrow">
              <a:avLst>
                <a:gd name="adj1" fmla="val 50000"/>
                <a:gd name="adj2" fmla="val 15488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19"/>
            <p:cNvSpPr/>
            <p:nvPr/>
          </p:nvSpPr>
          <p:spPr>
            <a:xfrm>
              <a:off x="7812000" y="3860640"/>
              <a:ext cx="189000" cy="409680"/>
            </a:xfrm>
            <a:prstGeom prst="downArrow">
              <a:avLst>
                <a:gd name="adj1" fmla="val 50000"/>
                <a:gd name="adj2" fmla="val 251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AutoShape 24"/>
            <p:cNvSpPr/>
            <p:nvPr/>
          </p:nvSpPr>
          <p:spPr>
            <a:xfrm>
              <a:off x="7236000" y="5445000"/>
              <a:ext cx="1512720" cy="1008360"/>
            </a:xfrm>
            <a:prstGeom prst="octagon">
              <a:avLst>
                <a:gd name="adj" fmla="val 2928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AutoShape 25"/>
            <p:cNvSpPr/>
            <p:nvPr/>
          </p:nvSpPr>
          <p:spPr>
            <a:xfrm>
              <a:off x="6948360" y="3116160"/>
              <a:ext cx="1944720" cy="623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7380360" y="4292640"/>
              <a:ext cx="1295280" cy="720720"/>
            </a:xfrm>
            <a:prstGeom prst="rect">
              <a:avLst/>
            </a:prstGeom>
            <a:solidFill>
              <a:srgbClr val="c1ffe6"/>
            </a:solidFill>
            <a:ln cap="sq" w="1260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>
              <a:off x="7812000" y="5084640"/>
              <a:ext cx="189000" cy="336600"/>
            </a:xfrm>
            <a:prstGeom prst="downArrow">
              <a:avLst>
                <a:gd name="adj1" fmla="val 50000"/>
                <a:gd name="adj2" fmla="val 2499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36"/>
            <p:cNvSpPr/>
            <p:nvPr/>
          </p:nvSpPr>
          <p:spPr>
            <a:xfrm>
              <a:off x="6877080" y="32004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枢神经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38"/>
            <p:cNvSpPr/>
            <p:nvPr/>
          </p:nvSpPr>
          <p:spPr>
            <a:xfrm>
              <a:off x="7380360" y="43354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体积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细胞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39"/>
            <p:cNvSpPr/>
            <p:nvPr/>
          </p:nvSpPr>
          <p:spPr>
            <a:xfrm>
              <a:off x="7380360" y="551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不可逆损伤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理生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1T09:36:15Z</dcterms:modified>
  <cp:revision>157</cp:revision>
  <dc:subject/>
  <dc:title>内科护理学</dc:title>
</cp:coreProperties>
</file>